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8F54-6946-426E-B6D2-BDB6A6BC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946-6039-424A-A6AF-BD911020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D9F-1D52-4AE8-BA0F-0ED74C3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106-D6A1-47D0-9943-37FCFD76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EB3-49B4-4B8A-9323-24AC0E88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B71-4CDB-4678-B64D-9DC648F7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18E-EEB8-4D97-B882-17CB13F1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6C99-2B1C-4C72-A0CB-97F1AFB6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80D3-E73D-41FC-B5FC-1533DE28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E8E7-EFE9-4506-90D0-59E3B83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61C-D284-4AED-819D-E0776DBB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D9C-9E59-4300-8BA3-12C56264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3CEE-644C-48D9-842D-3C524DE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7E92-B3C8-4499-80ED-1B992FB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F866-C9B0-4743-8CD6-F276F5B1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D7A-37A9-481B-9A67-9F1474B4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84FE-197A-4265-895C-D2CB2D29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6438-E73A-48F7-9945-75F9B67E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5E467-6C1F-4CF2-9A20-7AE01E2D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4B9C2-BE42-429D-9A34-3F360596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904D0-70C8-45E0-94E1-DA0D4FF6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FFDE8-C821-4F72-9BF8-61D8A6C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304-D284-4E02-8A31-3E999C8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E40A1-8EAC-45F0-8F6E-C3F2E0F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2468A-D9EA-4ACB-A041-9A380AD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9D53D-AADA-40B3-86B1-5230D20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85B2B-C5C4-4A7C-9FEF-CF6790A1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65F73-CCB4-428A-A696-C669349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023E5-30DC-4777-A82B-B97843DF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EAADE-E04D-44A2-BAD9-9935AC8E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56B44-230B-4A31-8C96-FD44FCC1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620E3-B4E0-4494-8807-90B62E0C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A4C4B-D0C8-48A6-9E72-E9BBBB7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F63-C26A-4A39-8844-04897437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194D8-58DF-4C38-B147-916547C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71740-CA51-4251-BD04-7F799FD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E83F9-C65F-450B-B896-C5A1D7C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13D1D-3FEA-4C0E-A8D8-38C8C4B0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38196-1021-422B-974C-6C101F4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382A3-8D60-466E-B162-5C17E14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35282-6D5B-4D4C-A1BD-4A42E726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0B5D8-4A5D-46AE-906A-4F460B6F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55938-A834-41D1-8364-4698F875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DC8D1-9655-4E68-9397-44725FDE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824-87DA-4755-8D6F-D1AF948E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BA9A6-23E3-43FC-AD34-9FC48561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AE8C3-6EC2-4CF3-A71D-BD3775AC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4B605-DB53-4800-80FE-C282221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15845-33C6-4637-BBD4-80F761D1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315CC-1043-4654-A1AA-3910697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A784A-7276-40B9-B49F-11CB61C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5C3A0-D2AC-4A79-AB3E-8BA181A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FC564-37BF-4335-8361-CD71E7C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A74A5-6693-4F72-81E2-10D31373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E103C-5BBA-470C-9292-A5456230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BE3-59D8-49A6-89D9-56AC7EF8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5D2D6-913E-4E4D-A26A-4F62797F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D64F-A279-42D6-93C1-CF447FB4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295C6-A054-4B1A-9E85-AD9C3F4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374A-0ECC-4E5A-B683-4358727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F7B75-C4DC-432D-ABD6-3D042AE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2D94-8065-4067-B732-6A437AF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9120-B301-40EB-AFEB-97B81FCE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0506-F037-41E6-ABA1-50E2BF3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DE1B-AE21-4379-80A1-ACF34F3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725E-4930-4BF6-92CE-FB13348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B10-A751-4C36-AD59-1D980CD2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144F-403A-4F5A-89AA-D8CEC44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96A9-0183-4F5C-B3D3-6BFEC494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815FD-0B29-41E7-B3A0-455D82F0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D6224-229E-4E45-BEA6-D4D89BD1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973FE-62D3-4661-AFD8-4B29A850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A4E33-C035-4587-B8F2-FE1F239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377FC-73C9-4BBA-AA59-D8CA6F4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E6F56-5589-4554-9953-7647E1B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356D5-E319-4225-AEAD-9A7F4B6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FB6F1-3334-427B-BE71-674E1461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FA7-6950-41FB-83A1-E195F6C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975DB-CD89-429C-A23D-BB0A379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D4060-9A65-470C-B199-4F58437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278C3-604F-471E-AC58-57972CF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21AE3-DD99-45F3-A774-5076DFC4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08A89-6555-4C57-A2C2-929CC8D5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5B12-30AF-4FCB-9C8B-0937672C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16F53-AEA6-4971-AFA2-D62C3DD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B2F1-5875-4884-8047-EE19C04D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25101-8290-483C-8883-3DECE12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D30F-D946-42F5-8E54-1DD594B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A92-6157-486C-A06A-5A28256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B9C4-7D2F-45A8-97C8-BD480B8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E3A6-159C-4800-8C8B-FB6B23B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26109-C711-4E06-BBB4-7DEAA3C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3C8A-997C-4A9D-AA1E-F9E0869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D655-E75D-49D5-A1B6-2DF59E36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BD334-7D51-41A3-A486-DCC83922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CF336-AA74-4789-98B4-FBA0154D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291-8318-4FEC-8F25-C81A45C1DD3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EC3-16D2-4142-B8AB-9011541B9113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2EF2-C60A-4475-8759-5D7DC567545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D76-83F5-4A61-AF09-FC49A2C65B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466-8A13-4F70-98E4-7A21C64825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BC1D-1612-41B2-A487-848D578E156A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A65-18BE-457F-82FA-1E838BC3BC8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D538-4192-4430-89D5-8844FBE87C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ПОЛЕЗНЫЕ ИСКОПАЕМЫЕ </a:t>
            </a:r>
            <a:br>
              <a:rPr sz="6600"/>
            </a:b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ЛЕНИНГРАДСКОЙ ОБЛАСТИ</a:t>
            </a:r>
            <a:endParaRPr b="0" lang="en-US" sz="6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27 году были обнаружены горючие сланцы. Сланцы это горючий газ,битум и многое другое для химической промышленности. В районе их добычи возник город Сланцы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области свыше 30 месторождений 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 action="ppaction://hlinksldjump"/>
              </a:rPr>
              <a:t>грани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2" action="ppaction://hlinksldjump"/>
              </a:rPr>
              <a:t>Край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огат торфом, бентонитовой глиной, известняк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4" name="Picture 5" descr="karta2"/>
          <p:cNvPicPr/>
          <p:nvPr/>
        </p:nvPicPr>
        <p:blipFill>
          <a:blip r:embed="rId1"/>
          <a:stretch/>
        </p:blipFill>
        <p:spPr>
          <a:xfrm>
            <a:off x="285840" y="114300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9:35:10Z</dcterms:created>
  <dc:creator>Марина Микрюкова</dc:creator>
  <dc:description/>
  <dc:language>en-US</dc:language>
  <cp:lastModifiedBy>Марина Микрюкова</cp:lastModifiedBy>
  <dcterms:modified xsi:type="dcterms:W3CDTF">2016-02-09T19:56:26Z</dcterms:modified>
  <cp:revision>3</cp:revision>
  <dc:subject/>
  <dc:title>ПОЛЕЗНЫЕ ИСКОПАЕМЫЕ  ЛЕНИНГРАДСКОЙ ОБЛАСТИ</dc:title>
</cp:coreProperties>
</file>